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2F3-8171-4626-BB8F-58CA5817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FA2-4297-4F10-BAFA-8BD219D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5D9-D73A-48E2-A21F-CBEDF6ED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8D9-0F88-4BD0-9BA9-A42EB4F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ABE-305A-43D2-A840-CAF30154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2C9-FBAB-4707-B598-BFED472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611-A39F-4306-B8F2-6445382A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EC8-85D5-419A-AB16-84DE670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094-3466-4C32-AB43-EB5064D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A4F-A773-4F3B-BBED-CF15E16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9C7-48A5-4589-A9EE-9CEE898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527-7255-4511-8CD4-31B9B89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46E11-7995-4240-9BE5-A709E2D0D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93B5C-9B23-49AF-AE36-DD440B25A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tiempo de Hutchinson, 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nueve de septiemb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MM900046572.GIF"/>
          <p:cNvPicPr/>
          <p:nvPr/>
        </p:nvPicPr>
        <p:blipFill>
          <a:blip r:embed="rId1"/>
          <a:srcRect l="0" t="-12053" r="0" b="-12053"/>
          <a:stretch/>
        </p:blipFill>
        <p:spPr>
          <a:xfrm>
            <a:off x="74520" y="1063800"/>
            <a:ext cx="4783320" cy="589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229360" y="1852560"/>
            <a:ext cx="38289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xima es 83 g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ínima es 66 g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y una br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ce c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lue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orded Sound" descr=""/>
          <p:cNvPicPr/>
          <p:nvPr/>
        </p:nvPicPr>
        <p:blipFill>
          <a:blip r:embed="rId2"/>
          <a:stretch/>
        </p:blipFill>
        <p:spPr>
          <a:xfrm>
            <a:off x="8775720" y="657540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3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8:42:53Z</dcterms:created>
  <dc:creator>Sarah Peterson</dc:creator>
  <dc:description/>
  <dc:language>en-US</dc:language>
  <cp:lastModifiedBy>Sarah Peterson</cp:lastModifiedBy>
  <dcterms:modified xsi:type="dcterms:W3CDTF">2010-09-09T18:43:14Z</dcterms:modified>
  <cp:revision>1</cp:revision>
  <dc:subject/>
  <dc:title>El tiempo de Hutchinson, KS el nueve de septiembre</dc:title>
</cp:coreProperties>
</file>